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3929-5A3B-4FA3-90E6-18A9009E5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7459-47D6-4AE8-8C0F-DB6EF28A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FFC5D7-9597-4119-95EE-C1721AFD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8906D94-1DE5-42B1-BAE9-341E58BD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6131140-5A83-45C5-A106-80817803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DDB8C9-9C89-4FDA-9417-CE5D47EBB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0865B5-7962-4534-9F60-2C0844A1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EBB35EA-9CBA-4826-83F3-70328E3E8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CA881B7-E50E-432D-A818-5A3C2F352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CD7D467-E1B0-42C1-BC43-A914878B0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494D1C-6FB4-46CB-954F-79C32B11B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B38521B-E275-429B-ABEA-F326C649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AE64-FF79-490A-853C-F8A0CE5C4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41CD5CB-F435-4BC9-BAE1-15E2A581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4D2ADDF-0885-4A43-975A-51EC63F61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1FA07D-3497-4814-AC29-E1516F77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9E5FABF-E787-4DC6-8289-9490252CA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023DF92-D595-425C-BA0F-555F375A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5143357-EA61-4647-8FEA-D524ED53B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7E9C2DC-4C25-4E1F-AFB0-543E061C3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8DCE93-BA2B-4D4E-895B-9EE12CFB3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EE5D19A-15E4-4B99-B684-FAB41C887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0F3D7EE-AD6D-41AB-AFA7-D80A890D7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964E-1C09-4A7E-A958-A486C41D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6AF54BD-AE07-45A1-8A0A-8B7C03A51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3ABEA-DD74-4509-A336-F9D3933D7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52E1C-6FB7-45CF-AC17-E5CDA2D4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AB15C-D418-40DA-9119-7B93060F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118AB0-063A-468E-BA23-6159907F3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FC4D0B-F09C-452D-861D-06DDEC0DA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19D04A-9AD4-48DE-A5A9-7C48CF4DA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9C387-CE0E-4037-86D2-AE2FA733E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CBB402-EF1F-4BF2-A383-5ADAF2DD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57160-4A5D-40DB-924B-E7F3364B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63108-2CE9-4174-8E9D-25CBCB0B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25FB4E-1FF0-40D8-940F-0038F2E55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16CB41-2DA2-4DEC-A5A9-0C35F337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ECE1E-D06F-4AA2-B8F4-2E070CCA3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ADED66-CCD2-41B0-BE68-1F208ACE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F6D8D0-F8E6-4D9B-B442-D05255B25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F371B0-9873-4BD0-80C8-7598A703A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941CC3-9C76-4EBF-98D6-4FCE0A7A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4FFD4E-C0E1-4074-B6FD-0EE73B02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AA2433-93AA-4794-94D5-EB63473BF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3F702D-DB2F-4378-B35D-04E5083A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45F6A7-6C39-4807-8010-71883C96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6E459-428A-4AC7-B97F-F0F3F4EB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1E8A5-D0D6-4282-8912-47D115A4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2B596-B30C-40A8-9094-7FB201E57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DEEF52-B6C1-4585-9AF5-7399D7B75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8A8ABC-82DD-4900-84E0-256990D98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AFCE97-F5A1-4EA6-8200-483E2607C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43AFBE-F4F0-4939-B601-4003735F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B565B-48A6-4B2F-9A1C-51D7AE8B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2244B8-E65A-4FC2-AB8E-8DF94E68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F96C6-4AEC-46A7-9D1F-608FB320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E6EE-E423-4727-90F8-1AA26511D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FF588D-A854-4A3D-B105-3B4121C12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8BE823-A501-445D-8868-1DD8B20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EB4BB-71DB-4333-81C8-8187C9A3C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A183B1-A3D9-43B3-A8AE-E70759204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5D7971-7268-4496-BFA9-8B56E4B5E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54F80-2F55-4735-B0E1-2E74769C5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719548-4A7B-4066-A533-4FD6EFB42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8D6C6E-9FBF-46A9-9FDA-5491DC42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D39C0C-CC67-43F6-BFDD-518899D93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BA95F5-B126-4444-B526-061862472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1161-CAAC-49AE-94A9-B18C20393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225098-6FAD-4760-88CE-CF0C35C5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1BDF78-7566-4822-84C4-1CC5559B3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098765-F24B-4FFF-B55B-82DE9A36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614BB1-3782-484A-BF9C-3DD8C532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705649-B46B-412B-83CD-DC2CBA5A0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BFC093-F718-4A91-AEEF-E2FED43F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6228CA-7AF4-418E-84A3-FCBC66F9C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61C0BF-4FE1-459B-86DB-40A216D61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2A4FA5-4A76-4F29-B73A-6CE057EBC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3AE447-AD15-4AC5-AFC7-5B3B90251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B9F2-2B7C-4ED3-A91B-4FD1565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C2C0F7-DD20-475E-9BE8-3EF971E0A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F2CE48-B27A-407C-82F0-515FC046D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DCF60F-EAB9-457B-8612-5E560E5AD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441E28-774D-4D6A-AA93-5BB3BBDF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54C399-0790-48D9-AC66-F856494D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CF9738-D825-4619-9AE0-BB3920CD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62311B-8F6B-4F6F-B524-4A65D8BA6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84A618-FA1A-488D-96E0-7120F460A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8C8422-C36F-48BA-87DC-15DDFAC48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0C5939-BDED-4D2E-BE2E-9931C75F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1AA5-DBD6-4527-BE74-0F120B34F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B5C268-FAA7-4EDF-9CCF-52209EA17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F1C3162-A4CB-4934-B609-EBA8CFC2C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09671E-C119-4BE7-8070-8BE83E6C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17AA72-FD4C-4A1B-9510-C2C0B7C43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A36C9F-FADA-4E5E-8555-079A9D83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41DDFB-BDAB-4C5E-9D9A-7A45E03BA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941A7-102D-4F63-89AF-7F1899E5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2777C-B47C-4671-A603-329FB2A8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B473A8-8842-4F67-8BE5-0D47F4ACD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FF2F26-0E93-4691-BEDE-4476DD581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1114-95EA-4C60-8AB0-079589E1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191CD8-52AF-4D31-A974-401D8E95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D61D1F-9633-41A0-9C61-53FC84E3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A629A0-5BAF-49C3-8268-5E129FC9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6DA9E6-E2E4-4EE5-9E3B-82FE3BF9D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70EB536-53EE-49A1-9844-3E1BE7DD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CBDEF0-E8BB-4615-BD92-58A86648C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AB2C1-6923-4DA8-8286-7FD179AB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F1398D8-5E01-4FCE-91C4-E38A30EA8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21BF80-C5F5-4E12-8361-2ED343AC3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C44AF-6A6B-4A14-951A-7CE7C0C8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D33F-0E60-4226-9541-B95ABC299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CDA526-9393-4025-BB2F-42C21A3E1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5F2E55-0692-4B3A-9E34-21BAB2712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EDC734-8DD4-4534-BD79-DB5C0E192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56805-F2A7-40B2-AA99-1A40D58C3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C3E2293-54A6-4E39-99D8-8438E4DF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857D53B-F6E7-41BD-B097-2543F730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E2B424-FC20-4881-811E-1D94F271C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533D88-79CE-4C63-93C8-D9FE28DF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1EF39C2-A125-4AD0-9510-BF07C88E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3E1DB8D-A0ED-42AF-804C-EFE1A43B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FC19-6825-4F88-A631-34937FFB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EF53A6-4ACF-44C8-9BE7-1C29A3A39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000E051-1A1F-4E8C-B1A6-A14F73F8F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62A1C48-A6B1-4F92-92E6-6A8287702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DCE31E7-B573-4559-94F5-A1C475A21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629FD2-B5A0-4D05-819A-C90EC5E6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124C5A-A8DE-4C7B-A0C1-A56E27296B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C0D9B17-C784-4FD0-9A01-361537905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DF53A2E-57E5-4DC1-AD3E-D1E9A022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EFC62F-E7A9-4AC1-ADC0-0F157685D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B424AF5-6706-4698-9918-53A59603C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E9F2-A737-42DC-BDFD-80C31FDF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ubTitle"/>
          </p:nvPr>
        </p:nvSpPr>
        <p:spPr>
          <a:xfrm>
            <a:off x="352440" y="228240"/>
            <a:ext cx="76802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8BA9C5-EB21-47FD-A64B-8B4AED42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F4A1E63-C833-420E-9AC7-E987D818D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2FFE3D4-00E7-4317-89A0-F1FDA585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8C1B614-72A7-4685-9638-0632D9A2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52440" y="3732120"/>
            <a:ext cx="7680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AAD6D5-F0F4-455F-B76B-9C45EFE4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287960" y="146340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244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287960" y="3732120"/>
            <a:ext cx="3747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1535FDA-9CC1-4967-B116-E3700BD52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294948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546160" y="146340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35244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6" name="PlaceHolder 6"/>
          <p:cNvSpPr>
            <a:spLocks noGrp="1"/>
          </p:cNvSpPr>
          <p:nvPr>
            <p:ph/>
          </p:nvPr>
        </p:nvSpPr>
        <p:spPr>
          <a:xfrm>
            <a:off x="294948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7" name="PlaceHolder 7"/>
          <p:cNvSpPr>
            <a:spLocks noGrp="1"/>
          </p:cNvSpPr>
          <p:nvPr>
            <p:ph/>
          </p:nvPr>
        </p:nvSpPr>
        <p:spPr>
          <a:xfrm>
            <a:off x="5546160" y="3732120"/>
            <a:ext cx="2472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779CB29-FBB1-42D4-AF78-EED3D633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54FA8C-EFAB-4666-80D8-A8FDD736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4330B46-ED41-4ECE-82B3-97C0CBE07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3C880D-F6C0-4353-AD53-873113E2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DED4-EE7B-4274-8C9C-305B4242CEFD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3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08d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4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sldNum" idx="29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1B28-84FE-447B-B532-832938F4A23E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30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2DBC-3554-4B34-A336-6E136C70048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3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3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4357-0BD0-4A23-BD23-F0431B3BE3A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4743360"/>
            <a:ext cx="9144000" cy="2114640"/>
          </a:xfrm>
          <a:prstGeom prst="rect">
            <a:avLst/>
          </a:prstGeom>
          <a:solidFill>
            <a:srgbClr val="808d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0" y="4714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5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C3C8-8B0F-4068-9E4D-5F38D242997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6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8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22C3-8FDA-413E-B124-67EF3DB4DD2A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9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0" y="0"/>
            <a:ext cx="9144000" cy="1828800"/>
          </a:xfrm>
          <a:prstGeom prst="rect">
            <a:avLst/>
          </a:prstGeom>
          <a:solidFill>
            <a:srgbClr val="808d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8" name="Straight Connector 8"/>
          <p:cNvSpPr/>
          <p:nvPr/>
        </p:nvSpPr>
        <p:spPr>
          <a:xfrm>
            <a:off x="-4680" y="182880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11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78A4-0ECC-4A23-992C-AE3783A0A8F6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ftr" idx="12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3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4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494BF-A1E4-4E04-B2DA-F084A87E0BE8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5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7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7C924-5A18-4CAD-BE16-2868CEB3D501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8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9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20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940F4-D819-4CA4-8538-BD02A05C7C70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1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dt" idx="22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23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E5D4-F9FC-4350-9616-4F37C87E717C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 type="ftr" idx="24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3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9" name="Rectangle 7"/>
          <p:cNvSpPr/>
          <p:nvPr/>
        </p:nvSpPr>
        <p:spPr>
          <a:xfrm>
            <a:off x="0" y="5734080"/>
            <a:ext cx="9144000" cy="1123920"/>
          </a:xfrm>
          <a:prstGeom prst="rect">
            <a:avLst/>
          </a:prstGeom>
          <a:solidFill>
            <a:srgbClr val="808da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0" name="Straight Connector 8"/>
          <p:cNvSpPr/>
          <p:nvPr/>
        </p:nvSpPr>
        <p:spPr>
          <a:xfrm>
            <a:off x="0" y="5695920"/>
            <a:ext cx="9144000" cy="144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orbe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52440" y="1463400"/>
            <a:ext cx="7680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1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2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3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4" marL="343080" indent="-343080">
              <a:spcBef>
                <a:spcPts val="1199"/>
              </a:spcBef>
              <a:buClr>
                <a:srgbClr val="93a299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5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  <a:p>
            <a:pPr lvl="6" marL="343080" indent="-343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dt" idx="25"/>
          </p:nvPr>
        </p:nvSpPr>
        <p:spPr>
          <a:xfrm>
            <a:off x="352080" y="6543720"/>
            <a:ext cx="146700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sldNum" idx="26"/>
          </p:nvPr>
        </p:nvSpPr>
        <p:spPr>
          <a:xfrm>
            <a:off x="7886880" y="6543720"/>
            <a:ext cx="8762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832E9-297C-452A-9F42-3B2FA6A43065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ftr" idx="27"/>
          </p:nvPr>
        </p:nvSpPr>
        <p:spPr>
          <a:xfrm>
            <a:off x="1809360" y="6543720"/>
            <a:ext cx="408636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352440" y="2895480"/>
            <a:ext cx="4572000" cy="13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.1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2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rbel"/>
              </a:rPr>
              <a:t>nd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 Yea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title"/>
          </p:nvPr>
        </p:nvSpPr>
        <p:spPr>
          <a:xfrm>
            <a:off x="352440" y="456840"/>
            <a:ext cx="7680240" cy="243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orbel"/>
              </a:rPr>
              <a:t>Los Apuntes</a:t>
            </a:r>
            <a:r>
              <a:rPr b="1" lang="en-US" sz="5400" spc="-1" strike="noStrike">
                <a:solidFill>
                  <a:srgbClr val="ff3399"/>
                </a:solidFill>
                <a:latin typeface="Corbel"/>
              </a:rPr>
              <a:t>:</a:t>
            </a:r>
            <a:r>
              <a:rPr b="1" lang="en-US" sz="5400" spc="-1" strike="noStrike">
                <a:solidFill>
                  <a:srgbClr val="00b0f0"/>
                </a:solidFill>
                <a:latin typeface="Corbel"/>
              </a:rPr>
              <a:t> Possessive Adjectives </a:t>
            </a:r>
            <a:r>
              <a:rPr b="1" lang="en-US" sz="5400" spc="-1" strike="noStrike">
                <a:solidFill>
                  <a:srgbClr val="ff3399"/>
                </a:solidFill>
                <a:latin typeface="Corbel"/>
              </a:rPr>
              <a:t>&amp;</a:t>
            </a:r>
            <a:r>
              <a:rPr b="1" lang="en-US" sz="5400" spc="-1" strike="noStrike">
                <a:solidFill>
                  <a:srgbClr val="00b0f0"/>
                </a:solidFill>
                <a:latin typeface="Corbel"/>
              </a:rPr>
              <a:t> Pronouns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352440" y="1463400"/>
            <a:ext cx="7680240" cy="143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What are the possessive adjectives you already know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Possessive Adjectives – </a:t>
            </a:r>
            <a:r>
              <a:rPr b="0" lang="en-US" sz="4000" spc="-1" strike="noStrike">
                <a:solidFill>
                  <a:srgbClr val="00b050"/>
                </a:solidFill>
                <a:latin typeface="Corbel"/>
              </a:rPr>
              <a:t>Short for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304920" y="2743200"/>
          <a:ext cx="8610480" cy="2819520"/>
        </p:xfrm>
        <a:graphic>
          <a:graphicData uri="http://schemas.openxmlformats.org/drawingml/2006/table">
            <a:tbl>
              <a:tblPr/>
              <a:tblGrid>
                <a:gridCol w="4305240"/>
                <a:gridCol w="4305240"/>
              </a:tblGrid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i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My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uestro(s) / Nuestr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u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3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u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Your (familiar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Vuestro(s) / Vuestr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All of your (familia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His, her, its, your 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Their, all of your 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 txBox="1"/>
          <p:nvPr/>
        </p:nvSpPr>
        <p:spPr>
          <a:xfrm>
            <a:off x="352440" y="1371240"/>
            <a:ext cx="81820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Why do we have possessive adjectives?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o tell you who owns something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To describe a relationship between people or thing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Example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My dad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15960" indent="-4478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Mi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padr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. Your (familiar) great-grandfather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15960" indent="-4478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Tu 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bisabuelo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3. Our toy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615960" indent="-447840"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Nuestros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juguet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Possessive Adjectives – </a:t>
            </a:r>
            <a:r>
              <a:rPr b="0" lang="en-US" sz="4000" spc="-1" strike="noStrike">
                <a:solidFill>
                  <a:srgbClr val="00b050"/>
                </a:solidFill>
                <a:latin typeface="Corbel"/>
              </a:rPr>
              <a:t>Short form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7" name="TextBox 3"/>
          <p:cNvSpPr/>
          <p:nvPr/>
        </p:nvSpPr>
        <p:spPr>
          <a:xfrm rot="416400">
            <a:off x="5363640" y="3440160"/>
            <a:ext cx="3349440" cy="265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rbel"/>
                <a:ea typeface="Arial"/>
              </a:rPr>
              <a:t>¡Ten Cuidado!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Possessive adjectives agree in </a:t>
            </a:r>
            <a:r>
              <a:rPr b="1" lang="en-US" sz="2400" spc="-1" strike="noStrike">
                <a:solidFill>
                  <a:srgbClr val="ff3399"/>
                </a:solidFill>
                <a:latin typeface="Corbel"/>
                <a:ea typeface="Arial"/>
              </a:rPr>
              <a:t>gender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3399"/>
                </a:solidFill>
                <a:latin typeface="Corbel"/>
                <a:ea typeface="Arial"/>
              </a:rPr>
              <a:t>number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with the noun they describe!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does the long form of possessive adjectives differ from the short form?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It is more express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The long form </a:t>
            </a: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FOLLOWS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the noun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What are the possessive adjectives (Long form)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Possessive Adjectives – </a:t>
            </a:r>
            <a:r>
              <a:rPr b="0" lang="en-US" sz="4000" spc="-1" strike="noStrike">
                <a:solidFill>
                  <a:srgbClr val="00b050"/>
                </a:solidFill>
                <a:latin typeface="Corbel"/>
              </a:rPr>
              <a:t>Long form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380880" y="3886200"/>
          <a:ext cx="8382240" cy="2590920"/>
        </p:xfrm>
        <a:graphic>
          <a:graphicData uri="http://schemas.openxmlformats.org/drawingml/2006/table">
            <a:tbl>
              <a:tblPr/>
              <a:tblGrid>
                <a:gridCol w="4191120"/>
                <a:gridCol w="4191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ío(s) / Mí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min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Nuestro(s) / Nuestr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Our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Tuyo(s) / Tuy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 Yours (familiar)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Vuestro(s) / Vuestr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all of yours (familiar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yo(s) / Suy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His, her, its, your 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Suyo(s) / Suya(s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292934"/>
                          </a:solidFill>
                          <a:latin typeface="Corbel"/>
                        </a:rPr>
                        <a:t>Of theirs, all of you (formal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Corbe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 txBox="1"/>
          <p:nvPr/>
        </p:nvSpPr>
        <p:spPr>
          <a:xfrm>
            <a:off x="352440" y="1463400"/>
            <a:ext cx="7680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1. The marionette of mine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La marioneta mía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2. The toy of he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El juguete suyo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3. The friends (f) of ou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Las amigas nuestra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rbel"/>
              </a:rPr>
              <a:t>4. The dolls of theirs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Las muñecas suyas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5. The paper of yours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Corbel"/>
              </a:rPr>
              <a:t>El papel tuyo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lvl="1" marL="514440" indent="-343080">
              <a:lnSpc>
                <a:spcPct val="90000"/>
              </a:lnSpc>
              <a:spcBef>
                <a:spcPts val="601"/>
              </a:spcBef>
              <a:buClr>
                <a:srgbClr val="93a2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La Práctica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3" name="TextBox 3"/>
          <p:cNvSpPr/>
          <p:nvPr/>
        </p:nvSpPr>
        <p:spPr>
          <a:xfrm rot="416400">
            <a:off x="4982400" y="2325960"/>
            <a:ext cx="3349800" cy="265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93a2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f0"/>
                </a:solidFill>
                <a:latin typeface="Corbel"/>
                <a:ea typeface="Arial"/>
              </a:rPr>
              <a:t>¡Ten Cuidado!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Possessive adjectives agree in </a:t>
            </a:r>
            <a:r>
              <a:rPr b="1" lang="en-US" sz="2400" spc="-1" strike="noStrike">
                <a:solidFill>
                  <a:srgbClr val="ff3399"/>
                </a:solidFill>
                <a:latin typeface="Corbel"/>
                <a:ea typeface="Arial"/>
              </a:rPr>
              <a:t>gender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and </a:t>
            </a:r>
            <a:r>
              <a:rPr b="1" lang="en-US" sz="2400" spc="-1" strike="noStrike">
                <a:solidFill>
                  <a:srgbClr val="ff3399"/>
                </a:solidFill>
                <a:latin typeface="Corbel"/>
                <a:ea typeface="Arial"/>
              </a:rPr>
              <a:t>number 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with the </a:t>
            </a:r>
            <a:r>
              <a:rPr b="1" lang="en-US" sz="2400" spc="-1" strike="noStrike">
                <a:solidFill>
                  <a:srgbClr val="00b050"/>
                </a:solidFill>
                <a:latin typeface="Corbel"/>
                <a:ea typeface="Arial"/>
              </a:rPr>
              <a:t>NOUN</a:t>
            </a:r>
            <a:r>
              <a:rPr b="1" lang="en-US" sz="2400" spc="-1" strike="noStrike">
                <a:solidFill>
                  <a:srgbClr val="292934"/>
                </a:solidFill>
                <a:latin typeface="Corbel"/>
                <a:ea typeface="Arial"/>
              </a:rPr>
              <a:t> they describe!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remove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2" dur="250" autoRev="1" fill="remove"/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292934"/>
                                      </p:to>
                                    </p:animClr>
                                    <p:animClr clrSpc="rgb">
                                      <p:cBhvr>
                                        <p:cTn id="163" dur="250" autoRev="1" fill="remove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292934"/>
                                      </p:to>
                                    </p:animClr>
                                    <p:set>
                                      <p:cBhvr>
                                        <p:cTn id="164" dur="250" autoRev="1" fill="remove"/>
                                        <p:tgtEl>
                                          <p:spTgt spid="5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9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4" dur="500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9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4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4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9" dur="500"/>
                                        <p:tgtEl>
                                          <p:spTgt spid="5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4" dur="500"/>
                                        <p:tgtEl>
                                          <p:spTgt spid="52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 txBox="1"/>
          <p:nvPr/>
        </p:nvSpPr>
        <p:spPr>
          <a:xfrm>
            <a:off x="352440" y="1463400"/>
            <a:ext cx="810576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How are possessive pronouns  formed?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Use </a:t>
            </a:r>
            <a:r>
              <a:rPr b="0" lang="en-US" sz="2400" spc="-1" strike="noStrike">
                <a:solidFill>
                  <a:srgbClr val="92d050"/>
                </a:solidFill>
                <a:latin typeface="Corbel"/>
              </a:rPr>
              <a:t>the long form 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of the possessive adjective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dd  </a:t>
            </a: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el, la, los, las 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according to the gender and number of the </a:t>
            </a:r>
            <a:r>
              <a:rPr b="0" lang="en-US" sz="2400" spc="-1" strike="noStrike">
                <a:solidFill>
                  <a:srgbClr val="00b0f0"/>
                </a:solidFill>
                <a:latin typeface="Corbel"/>
              </a:rPr>
              <a:t>noun</a:t>
            </a:r>
            <a:r>
              <a:rPr b="0" lang="en-US" sz="2400" spc="-1" strike="noStrike">
                <a:solidFill>
                  <a:srgbClr val="ffff00"/>
                </a:solidFill>
                <a:latin typeface="Corbel"/>
              </a:rPr>
              <a:t> it replaces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have my notes, not yours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Yo tengo mis </a:t>
            </a:r>
            <a:r>
              <a:rPr b="0" lang="en-US" sz="2400" spc="-1" strike="noStrike">
                <a:solidFill>
                  <a:srgbClr val="00b0f0"/>
                </a:solidFill>
                <a:latin typeface="Corbel"/>
              </a:rPr>
              <a:t>apunte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, no </a:t>
            </a: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los </a:t>
            </a:r>
            <a:r>
              <a:rPr b="0" lang="en-US" sz="2400" spc="-1" strike="noStrike">
                <a:solidFill>
                  <a:srgbClr val="92d050"/>
                </a:solidFill>
                <a:latin typeface="Corbel"/>
              </a:rPr>
              <a:t>tuyos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rbel"/>
              </a:rPr>
              <a:t>Our house is big and yours is small. 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Nuestra </a:t>
            </a:r>
            <a:r>
              <a:rPr b="0" lang="en-US" sz="2400" spc="-1" strike="noStrike">
                <a:solidFill>
                  <a:srgbClr val="00b0f0"/>
                </a:solidFill>
                <a:latin typeface="Corbel"/>
              </a:rPr>
              <a:t>cas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es grande y </a:t>
            </a:r>
            <a:r>
              <a:rPr b="0" lang="en-US" sz="2400" spc="-1" strike="noStrike">
                <a:solidFill>
                  <a:srgbClr val="ff3399"/>
                </a:solidFill>
                <a:latin typeface="Corbel"/>
              </a:rPr>
              <a:t>la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92d050"/>
                </a:solidFill>
                <a:latin typeface="Corbel"/>
              </a:rPr>
              <a:t>tuya </a:t>
            </a:r>
            <a:r>
              <a:rPr b="0" lang="en-US" sz="2400" spc="-1" strike="noStrike">
                <a:solidFill>
                  <a:srgbClr val="ffffff"/>
                </a:solidFill>
                <a:latin typeface="Corbel"/>
              </a:rPr>
              <a:t>es pequeña. 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Possessive Pronouns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1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6" dur="20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1" dur="20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6" dur="2000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5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5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 txBox="1"/>
          <p:nvPr/>
        </p:nvSpPr>
        <p:spPr>
          <a:xfrm>
            <a:off x="352440" y="1295280"/>
            <a:ext cx="7680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1. Our dog is bigger (more big) than his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rbel"/>
              </a:rPr>
              <a:t>Nuestro perro es más grande que el suyo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2. She wants her toys, not mine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99"/>
                </a:solidFill>
                <a:latin typeface="Corbel"/>
              </a:rPr>
              <a:t>Ella quiere sus juguetes, no los mío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3. My nephew is six (has six years). And yours, how old is he?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f0"/>
                </a:solidFill>
                <a:latin typeface="Corbel"/>
              </a:rPr>
              <a:t>Mi sobrino tiene seis años. Y el tuyo, ¿cuántos años tiene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</a:rPr>
              <a:t>4. Their friends are tall and ours are short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>
              <a:spcBef>
                <a:spcPts val="1199"/>
              </a:spcBef>
              <a:buClr>
                <a:srgbClr val="808d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2d050"/>
                </a:solidFill>
                <a:latin typeface="Corbel"/>
              </a:rPr>
              <a:t>Sus amigos son altos y los nuestros son bajos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52440" y="228240"/>
            <a:ext cx="768024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Corbel"/>
              </a:rPr>
              <a:t>La Práctica 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5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7T14:39:22Z</dcterms:created>
  <dc:creator>Heffernen, Heather</dc:creator>
  <dc:description/>
  <dc:language>en-US</dc:language>
  <cp:lastModifiedBy>Prine, Stephanie</cp:lastModifiedBy>
  <dcterms:modified xsi:type="dcterms:W3CDTF">2016-02-10T20:27:56Z</dcterms:modified>
  <cp:revision>25</cp:revision>
  <dc:subject/>
  <dc:title>Los Apuntes: Possessive Adjectives &amp; Pronouns</dc:title>
</cp:coreProperties>
</file>